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60C9-75B5-4B32-9606-F46EF463159D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BD7F-CA0A-4074-ABB4-F80FDF2BA8E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F66F-BF1A-4995-AA3F-12F5F48948E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C61-099D-4266-95DF-BEE443CA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52D-55EF-47D3-ADA1-3736B876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EE8-FFB1-44C5-A5C9-93C5318B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948-CE7C-41BF-9567-B3B53CA1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DDF5-95CC-4C43-8E8F-220108BC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9E1F-B0A2-4BFF-A204-3DB284E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BD42-755D-434A-979C-C984CA55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09E4-D936-49E6-8EC4-92C2A17C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A237-4A68-499F-92D1-3D057C18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9E92-B2C2-45AA-BCB9-05045D92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3278-1D45-49B5-B698-2B5F83E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C23-AE6A-4B6D-A30D-50E8ACC5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DD5C-3576-4FC9-87FD-9642C49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8D10-BBA2-4EB2-9E91-824A9E1C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97F0-67FF-4ED4-B54C-141247EA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17F5-5288-4B9F-B125-0C742DBD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8285-93B2-4D61-A44F-9CE09150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FEFDF-ABCE-4BEB-8AFC-CFD7AA04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320B1-3490-4445-9475-BEBD4489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35199-65BD-4C7E-9EB2-4AAA42C3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63339-CDA9-4106-AA7A-A66F4B03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C3D75-FDF3-4698-8D85-9651AA3C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CD9-A6A9-4931-BFC6-995E9F69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BC1C8-7D66-44EE-B0FE-6D8EB063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FB5DB-48F9-4A8B-A067-A65A6DA7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EBFCE-9B9B-4374-B5FC-522208C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25DA7-ECCE-4CE5-A6CA-E601D6E0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C0158-2A0E-4F29-B462-078AA11D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11D49-C998-4965-A184-8C9ED04F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577D7-C00E-46C7-BDA9-AEC34CF1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90D3F-E4A9-4694-801D-9F10CCFB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911C-3DAF-4C42-885E-332F5C5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7CF3D-16DF-409D-AFF7-B5A7F0C4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6A9-7F52-43B5-8684-D4125AB1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08BAC-E1C4-4D48-B865-AFD8572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B23E-762D-466C-A780-EC8AE5D1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5844-BF57-4983-9BAB-40EA6AC5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C0623-CBF0-4077-AD96-E3C539C4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E5468-E1E4-4C05-A38C-E1B190B9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53F1-5FCB-4523-858E-3221D5F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04A8-B89F-439A-89CD-A5BF93B3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7AC3-38A5-4B5E-A755-62890FA7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DBCD-3EF1-48E5-AD53-988A6462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8386C-AB6E-47D3-B61C-3F797274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611-D8B2-4005-B5D4-EE66C05A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A9EF9-07C6-4A05-8725-A6C0496C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0C83B-152F-4820-85DB-333D49EB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16E4C-7D59-43A7-8DEC-0554C82C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28482-2256-4B34-A1B4-8F6ED68A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51DE8-7EC4-4EF6-A47D-B20E75B5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4268D-8376-4A52-A033-C0FC2AB0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DF960-E96D-4F73-B9F9-6A0B5391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752F9-CE0F-4681-BD6B-35A27D4D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D8F97-5638-41CB-BE3F-D40BA87C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94CAB-96AE-4609-A3E5-54B0AA3B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D95-24BF-457D-BD3D-4CCABA3A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A5F68-FDD4-4CB6-9A70-2E165FEF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75C52-3015-49CD-9D14-F23C2D25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09BE9-6D75-41C5-9979-5DA8FEFF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C3876-CBB7-4477-A190-D3270A16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CD146-A7C9-4114-BDEB-D5870BC4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71C28-D3B7-47B8-8589-9D334C78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3888E-ED0C-417D-95FA-93C74BEC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235B3-D371-4B0D-8AF9-A54F65E5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5364D-20EE-4125-9D23-406D1DD2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B580E-3BD6-4347-A601-685DA9D8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85F-23EC-403B-8958-F0AD813E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E2E71-26BF-4AD2-B042-1FDDD89E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0404A-AC8D-4E9A-B2A2-50E51533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717F2-1E7D-43DA-9E28-2C36E151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15A97-37A7-41D7-AF83-329DFE3C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A91E2-1EF1-4CC6-A68B-95C04466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EE7897-A731-47C2-8C26-FDEA2615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CFAB7-3EC8-404F-89EF-BF90A13A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887EE-9212-406F-9F3E-7D5010EF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33758-DFAD-45C2-A7A6-AB622B0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9369B-C59C-413C-B496-9A04A9C3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E72-7E18-4A9A-A4DB-52788D00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92454-5614-4568-9061-9A57536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765D8-7731-40AE-82AB-DE5819FA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3786C-08D2-40E5-A9AC-A3CBC4AC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87E15-1CCA-421D-8F78-5F1EBD0A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09488-5185-471C-85F6-084DC814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A27-805A-45A4-A819-52BE4BE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D5B6-7D9B-4FDD-9430-E1F8B53EE923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11CB-BDC1-4AE7-8B4E-36C8A022123A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408D-539E-4767-BB7B-DA1F084EC1BA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5f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f5f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f5f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1908-8276-4772-8022-DCC484D230F7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BB20-0D21-4F45-A9FE-5DE469ECEBCE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29D8-2C9F-4755-A3F3-BA4D5D3AE52C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F4FE-F1AD-492E-ADFC-BE0F7E200D9D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4646"/>
                </a:solidFill>
                <a:latin typeface="Huxtable"/>
                <a:ea typeface="Arial"/>
              </a:rPr>
              <a:t>MY SKETCHUP PROJECT</a:t>
            </a:r>
            <a:br>
              <a:rPr sz="5400"/>
            </a:br>
            <a:r>
              <a:rPr b="1" lang="en-US" sz="2800" spc="-1" strike="noStrike">
                <a:solidFill>
                  <a:srgbClr val="464646"/>
                </a:solidFill>
                <a:latin typeface="Huxtable"/>
                <a:ea typeface="Arial"/>
              </a:rPr>
              <a:t>KATIE PATON</a:t>
            </a:r>
            <a:endParaRPr b="0" lang="en-US" sz="28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2286000" y="2357280"/>
            <a:ext cx="6000840" cy="375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EIGHT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3" name="Content Placeholder 3" descr="Step 8.jpg"/>
          <p:cNvPicPr/>
          <p:nvPr/>
        </p:nvPicPr>
        <p:blipFill>
          <a:blip r:embed="rId1"/>
          <a:srcRect l="0" t="12482" r="24809" b="23234"/>
          <a:stretch/>
        </p:blipFill>
        <p:spPr>
          <a:xfrm>
            <a:off x="214200" y="1571760"/>
            <a:ext cx="5615280" cy="30002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6143760" y="1571760"/>
            <a:ext cx="235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xtable"/>
              </a:rPr>
              <a:t>Next I designed my dormer on my 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4272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Huxtable"/>
              </a:rPr>
              <a:t>THE END</a:t>
            </a:r>
            <a:endParaRPr b="0" lang="en-US" sz="96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742932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ONE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1" name="Content Placeholder 3" descr="first step.jpg"/>
          <p:cNvPicPr/>
          <p:nvPr/>
        </p:nvPicPr>
        <p:blipFill>
          <a:blip r:embed="rId1"/>
          <a:stretch/>
        </p:blipFill>
        <p:spPr>
          <a:xfrm>
            <a:off x="214200" y="1357200"/>
            <a:ext cx="4592880" cy="2870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second step.jpg"/>
          <p:cNvPicPr/>
          <p:nvPr/>
        </p:nvPicPr>
        <p:blipFill>
          <a:blip r:embed="rId2"/>
          <a:stretch/>
        </p:blipFill>
        <p:spPr>
          <a:xfrm>
            <a:off x="571680" y="4071960"/>
            <a:ext cx="4143240" cy="25891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5429160" y="1285920"/>
            <a:ext cx="285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xtable"/>
              </a:rPr>
              <a:t>First thing I did was draw a rectangle and then push/pull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TWO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5" name="Content Placeholder 4" descr="step 3.jpg"/>
          <p:cNvPicPr/>
          <p:nvPr/>
        </p:nvPicPr>
        <p:blipFill>
          <a:blip r:embed="rId1"/>
          <a:srcRect l="17793" t="1767" r="29592" b="20173"/>
          <a:stretch/>
        </p:blipFill>
        <p:spPr>
          <a:xfrm>
            <a:off x="214200" y="1000080"/>
            <a:ext cx="3000600" cy="2782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step 4.jpg"/>
          <p:cNvPicPr/>
          <p:nvPr/>
        </p:nvPicPr>
        <p:blipFill>
          <a:blip r:embed="rId2"/>
          <a:srcRect l="5468" t="18751" r="40627" b="17499"/>
          <a:stretch/>
        </p:blipFill>
        <p:spPr>
          <a:xfrm>
            <a:off x="142920" y="4000680"/>
            <a:ext cx="3479760" cy="2571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Step 5.jpg"/>
          <p:cNvPicPr/>
          <p:nvPr/>
        </p:nvPicPr>
        <p:blipFill>
          <a:blip r:embed="rId3"/>
          <a:srcRect l="0" t="13753" r="42971" b="18751"/>
          <a:stretch/>
        </p:blipFill>
        <p:spPr>
          <a:xfrm>
            <a:off x="3286080" y="214200"/>
            <a:ext cx="3862440" cy="2857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step 6.jpg"/>
          <p:cNvPicPr/>
          <p:nvPr/>
        </p:nvPicPr>
        <p:blipFill>
          <a:blip r:embed="rId4"/>
          <a:srcRect l="0" t="15000" r="44533" b="20003"/>
          <a:stretch/>
        </p:blipFill>
        <p:spPr>
          <a:xfrm>
            <a:off x="3857760" y="3714840"/>
            <a:ext cx="3902040" cy="28573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8"/>
          <p:cNvSpPr/>
          <p:nvPr/>
        </p:nvSpPr>
        <p:spPr>
          <a:xfrm>
            <a:off x="7286760" y="642960"/>
            <a:ext cx="128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xtable"/>
              </a:rPr>
              <a:t>How I made my ro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THREE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71" name="Content Placeholder 3" descr="step 7.jpg"/>
          <p:cNvPicPr/>
          <p:nvPr/>
        </p:nvPicPr>
        <p:blipFill>
          <a:blip r:embed="rId1"/>
          <a:srcRect l="1530" t="10951" r="22895" b="9453"/>
          <a:stretch/>
        </p:blipFill>
        <p:spPr>
          <a:xfrm>
            <a:off x="285840" y="1500120"/>
            <a:ext cx="3929040" cy="258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step 8.jpg"/>
          <p:cNvPicPr/>
          <p:nvPr/>
        </p:nvPicPr>
        <p:blipFill>
          <a:blip r:embed="rId2"/>
          <a:srcRect l="3124" t="2499" r="22656" b="12501"/>
          <a:stretch/>
        </p:blipFill>
        <p:spPr>
          <a:xfrm>
            <a:off x="285840" y="4044960"/>
            <a:ext cx="3929040" cy="28130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5"/>
          <p:cNvSpPr/>
          <p:nvPr/>
        </p:nvSpPr>
        <p:spPr>
          <a:xfrm>
            <a:off x="4500720" y="1857240"/>
            <a:ext cx="378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xtable"/>
              </a:rPr>
              <a:t>Next I made two chimneys next to each other on the roof using the rectangle tool and the push pu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FOUR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75" name="Content Placeholder 3" descr="Step 4.jpg"/>
          <p:cNvPicPr/>
          <p:nvPr/>
        </p:nvPicPr>
        <p:blipFill>
          <a:blip r:embed="rId1"/>
          <a:srcRect l="2486" t="10951" r="23852" b="21699"/>
          <a:stretch/>
        </p:blipFill>
        <p:spPr>
          <a:xfrm>
            <a:off x="214200" y="1214280"/>
            <a:ext cx="4875480" cy="2786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ep 4 pt 2.jpg"/>
          <p:cNvPicPr/>
          <p:nvPr/>
        </p:nvPicPr>
        <p:blipFill>
          <a:blip r:embed="rId2"/>
          <a:srcRect l="0" t="2499" r="35938" b="30236"/>
          <a:stretch/>
        </p:blipFill>
        <p:spPr>
          <a:xfrm>
            <a:off x="214200" y="3857760"/>
            <a:ext cx="4572000" cy="3000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Step 4 pt 3.jpg"/>
          <p:cNvPicPr/>
          <p:nvPr/>
        </p:nvPicPr>
        <p:blipFill>
          <a:blip r:embed="rId3"/>
          <a:srcRect l="0" t="7502" r="36720" b="25001"/>
          <a:stretch/>
        </p:blipFill>
        <p:spPr>
          <a:xfrm>
            <a:off x="4572000" y="328608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Huxtable"/>
              </a:rPr>
              <a:t>STEP FOUR PART TWO-IMPORTING TEXTURE</a:t>
            </a:r>
            <a:endParaRPr b="0" lang="en-US" sz="4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79" name="Content Placeholder 3" descr="Step 4 pt 4.jpg"/>
          <p:cNvPicPr/>
          <p:nvPr/>
        </p:nvPicPr>
        <p:blipFill>
          <a:blip r:embed="rId1"/>
          <a:srcRect l="9183" t="3298" r="21939" b="23234"/>
          <a:stretch/>
        </p:blipFill>
        <p:spPr>
          <a:xfrm>
            <a:off x="428760" y="150012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Step 4 pt 5.jpg"/>
          <p:cNvPicPr/>
          <p:nvPr/>
        </p:nvPicPr>
        <p:blipFill>
          <a:blip r:embed="rId2"/>
          <a:srcRect l="21094" t="16252" r="22656" b="20003"/>
          <a:stretch/>
        </p:blipFill>
        <p:spPr>
          <a:xfrm>
            <a:off x="571680" y="3973680"/>
            <a:ext cx="4071600" cy="288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FIVE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82" name="Content Placeholder 3" descr="Step 5.jpg"/>
          <p:cNvPicPr/>
          <p:nvPr/>
        </p:nvPicPr>
        <p:blipFill>
          <a:blip r:embed="rId1"/>
          <a:srcRect l="14350" t="26022" r="35332" b="14050"/>
          <a:stretch/>
        </p:blipFill>
        <p:spPr>
          <a:xfrm>
            <a:off x="357120" y="1214280"/>
            <a:ext cx="3757680" cy="2797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Step 5 pt 2.jpg"/>
          <p:cNvPicPr/>
          <p:nvPr/>
        </p:nvPicPr>
        <p:blipFill>
          <a:blip r:embed="rId2"/>
          <a:srcRect l="13281" t="13753" r="7813" b="26253"/>
          <a:stretch/>
        </p:blipFill>
        <p:spPr>
          <a:xfrm>
            <a:off x="214200" y="4000680"/>
            <a:ext cx="5411880" cy="2571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Step 5 pt 3.jpg"/>
          <p:cNvPicPr/>
          <p:nvPr/>
        </p:nvPicPr>
        <p:blipFill>
          <a:blip r:embed="rId3"/>
          <a:srcRect l="27345" t="21250" r="21877" b="21250"/>
          <a:stretch/>
        </p:blipFill>
        <p:spPr>
          <a:xfrm>
            <a:off x="4286160" y="785880"/>
            <a:ext cx="4071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5857920" y="392904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xtable"/>
              </a:rPr>
              <a:t>Next I made my veranda over my front door. Next I drew a rectangle and selected it then imported a picture of a front door like I did for my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SIX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87" name="Content Placeholder 3" descr="Step 6.jpg"/>
          <p:cNvPicPr/>
          <p:nvPr/>
        </p:nvPicPr>
        <p:blipFill>
          <a:blip r:embed="rId1"/>
          <a:srcRect l="0" t="0" r="9502" b="17112"/>
          <a:stretch/>
        </p:blipFill>
        <p:spPr>
          <a:xfrm>
            <a:off x="285840" y="1285920"/>
            <a:ext cx="7000920" cy="40082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4"/>
          <p:cNvSpPr/>
          <p:nvPr/>
        </p:nvSpPr>
        <p:spPr>
          <a:xfrm>
            <a:off x="428760" y="557208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xtable"/>
              </a:rPr>
              <a:t>Next I added texture to my cottage and imported a flower pot from the 3D ware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SEVEN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0" name="Content Placeholder 3" descr="Step 7.jpg"/>
          <p:cNvPicPr/>
          <p:nvPr/>
        </p:nvPicPr>
        <p:blipFill>
          <a:blip r:embed="rId1"/>
          <a:srcRect l="2870" t="6123" r="9118" b="12756"/>
          <a:stretch/>
        </p:blipFill>
        <p:spPr>
          <a:xfrm>
            <a:off x="357120" y="1500120"/>
            <a:ext cx="6572160" cy="378612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571680" y="550080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xtable"/>
              </a:rPr>
              <a:t>Next I added two other windows on at the back of the house like my first one on the fr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3:13:36Z</dcterms:created>
  <dc:creator>Diocesan School for Girls</dc:creator>
  <dc:description/>
  <dc:language>en-US</dc:language>
  <cp:lastModifiedBy>Diocesan School for Girls</cp:lastModifiedBy>
  <dcterms:modified xsi:type="dcterms:W3CDTF">2009-09-03T05:08:55Z</dcterms:modified>
  <cp:revision>23</cp:revision>
  <dc:subject/>
  <dc:title>My sketchup project</dc:title>
</cp:coreProperties>
</file>